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13.gif" ContentType="image/gif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76438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42560" y="4641480"/>
            <a:ext cx="76438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9360" y="242208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42560" y="464148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959360" y="464148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2460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27000" y="2422080"/>
            <a:ext cx="2460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11440" y="2422080"/>
            <a:ext cx="2460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42560" y="4641480"/>
            <a:ext cx="2460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27000" y="4641480"/>
            <a:ext cx="2460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211440" y="4641480"/>
            <a:ext cx="2460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42560" y="2422080"/>
            <a:ext cx="764388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76438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3729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59360" y="2422080"/>
            <a:ext cx="3729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42560" y="1773000"/>
            <a:ext cx="76438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59360" y="2422080"/>
            <a:ext cx="3729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42560" y="464148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42560" y="2422080"/>
            <a:ext cx="764388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3729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59360" y="242208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959360" y="464148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59360" y="242208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42560" y="4641480"/>
            <a:ext cx="76438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76438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42560" y="4641480"/>
            <a:ext cx="76438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9360" y="242208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64148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959360" y="464148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2460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27000" y="2422080"/>
            <a:ext cx="2460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211440" y="2422080"/>
            <a:ext cx="2460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42560" y="4641480"/>
            <a:ext cx="2460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627000" y="4641480"/>
            <a:ext cx="2460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211440" y="4641480"/>
            <a:ext cx="2460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5F2A-FD53-4C63-B9EE-70C4CB34A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042560" y="2422080"/>
            <a:ext cx="764388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E6BE-3D45-48A7-A562-38FA16650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76438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0FF0-C7B6-44C6-9BA9-37B792E9D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3729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59360" y="2422080"/>
            <a:ext cx="3729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CAE8-5C2D-4B0B-862E-BEAEB0742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E807-91E5-4FC2-8297-F1275FF80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76438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042560" y="1773000"/>
            <a:ext cx="76438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6BC4-D3E9-4A48-998A-6377DCCA7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59360" y="2422080"/>
            <a:ext cx="3729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42560" y="464148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4513-BBE1-4D5D-B2C8-2AF04161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3729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59360" y="242208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959360" y="464148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40D9-A1C5-4A00-B021-D495C912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59360" y="242208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42560" y="4641480"/>
            <a:ext cx="76438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775A-81F3-498F-A2FE-DD15673A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76438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042560" y="4641480"/>
            <a:ext cx="76438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FD54-9E87-478E-B444-A441831E0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59360" y="242208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42560" y="464148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959360" y="464148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A4C7-27C0-4D3B-B487-A81CB8BC9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2460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627000" y="2422080"/>
            <a:ext cx="2460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211440" y="2422080"/>
            <a:ext cx="2460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042560" y="4641480"/>
            <a:ext cx="2460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627000" y="4641480"/>
            <a:ext cx="2460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211440" y="4641480"/>
            <a:ext cx="2460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A290-8D3F-4F2B-BA2C-C8A83B08C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05D5F-72DA-4C19-A6EA-E40A99314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042560" y="2422080"/>
            <a:ext cx="764388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D2A43-BB02-4C99-854D-AEA9A1290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76438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1DF56-2058-44DC-B21F-47656FF50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3729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959360" y="2422080"/>
            <a:ext cx="3729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3729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59360" y="2422080"/>
            <a:ext cx="3729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F220D-3964-4B70-91E4-162F20A1E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045A2-8519-488D-AF8E-79C68BD1A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1042560" y="1773000"/>
            <a:ext cx="76438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EAFF1-911F-433D-B799-993D8C78F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959360" y="2422080"/>
            <a:ext cx="3729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042560" y="464148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9A0FF-5C5B-48FA-85E6-0D098754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3729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959360" y="242208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959360" y="464148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E1C99-7E20-4253-8BBF-4556560B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959360" y="242208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042560" y="4641480"/>
            <a:ext cx="76438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B0391-9374-4643-89F1-9FFD7CB0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76438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1042560" y="4641480"/>
            <a:ext cx="76438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91D72-922C-4B65-9E32-74FE1C70C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59360" y="242208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042560" y="464148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959360" y="464148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883E9-D1E4-4E8B-83F4-D9FA7393F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2460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627000" y="2422080"/>
            <a:ext cx="2460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11440" y="2422080"/>
            <a:ext cx="2460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1042560" y="4641480"/>
            <a:ext cx="2460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627000" y="4641480"/>
            <a:ext cx="2460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211440" y="4641480"/>
            <a:ext cx="2460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131F2-25DF-4E89-869D-E97E16B26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42560" y="1773000"/>
            <a:ext cx="76438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59360" y="2422080"/>
            <a:ext cx="3729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42560" y="464148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3729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9360" y="242208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9360" y="464148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59360" y="242208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42560" y="4641480"/>
            <a:ext cx="76438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42560" y="2422080"/>
            <a:ext cx="76438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4360" y="4510080"/>
            <a:ext cx="77724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74D65-2464-4753-B8E1-021B2445C1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51518-5914-4268-87D6-9D028ECBBE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hyperlink" Target="http://msnbcmedia.msn.com/i/msnbc/Components/Interactives/Health/WomensHealth/zFlashAssets/menstrual_cycle_dw2%5B1%5D.swf" TargetMode="Externa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ytimes.com/imagepages/2007/08/01/health/adam/17136Tuballigation.html" TargetMode="External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lencoe.com/sec/science/cgi-bin/splitwindow.cgi?top=http://www.glencoe.com/sec/science/top2.html&amp;link=http://www.visembryo.com/baby/index.html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quia.com/quiz/887927.html?AP_rand=1728310696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youtube.com/watch?v=6XyJlWQnMTU&amp;feature=related" TargetMode="External"/><Relationship Id="rId3" Type="http://schemas.openxmlformats.org/officeDocument/2006/relationships/hyperlink" Target="http://youtube.com/watch?v=6XyJlWQnMTU&amp;feature=related" TargetMode="External"/><Relationship Id="rId4" Type="http://schemas.openxmlformats.org/officeDocument/2006/relationships/hyperlink" Target="http://youtube.com/watch?v=6XyJlWQnMTU&amp;feature=related" TargetMode="External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4360" y="4510080"/>
            <a:ext cx="77724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The Reproductive System</a:t>
            </a:r>
            <a:endParaRPr b="1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4360" y="5589720"/>
            <a:ext cx="64008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logy 1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The Male Reproductive System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1143000" y="2362320"/>
            <a:ext cx="6172200" cy="42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952880" y="914400"/>
            <a:ext cx="3962520" cy="533412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Internal Male Organ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rm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he microscopic cells produced by the male’s testicles which can fertilize the female’s ov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state Gland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 man’s gland that helps make sem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wper’s Gland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behind the base of the penis which secretes fluid to make semen and neutralize acid during sexual excit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jaculatory duct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 short straight tube that passes into the prostate gland and opens into the ureth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419720" y="1828800"/>
            <a:ext cx="4495680" cy="3963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0" y="1676520"/>
            <a:ext cx="449568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rethr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 tube that connects with the vas deferens to carry sperm cells out of the body.  In males, both urine and sperm leave the body through the ureth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ididymi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coiled tube that stores sperm produced by the testes (one part attached to testes and other attaches to the vas defer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s Defere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singular)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extends up into the abdominal cavity, where it joins the ureth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minal Vesicle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two pouch-like structures which serve to store mature sperm until ejacul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Seminal Fluid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76438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epididymis to the urethra, glands add secretions to the sperm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inal Flu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ies sp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bricates sperms passage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 protection from the acidic environment of the female reproductive 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s fructose; (sperm’s energy sour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en = Seminal Fluid + Sp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720" y="1143000"/>
            <a:ext cx="76435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Cross section of Peni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676520" y="1790640"/>
            <a:ext cx="601956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-228600" y="0"/>
            <a:ext cx="9372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External Male Reproductive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76438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osterone: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le reproductive hormone made by the testicles which causes the changes of puber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ni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the organ of transfer of sperm to fema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rotum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pouch-like sac holding both testicles in a separate compartment that hang underneath the penis; Temperature inside scrotum is 1.5 C lower than w/in the body cavity for sperm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icles – Testes Glan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two glands in the male, located in the scrotum, which produce male hormones (testosterone); produce the male gametes (sper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wimming for Your Life – Haploid cells produced by meiosis (23 chromosomes)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2666880"/>
            <a:ext cx="723888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perm is a tiny package with a big responsibility – to fertilize the egg and create a human life.  So that tiny package is loaded with “gear” for its important journe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ew fac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ily sperm production by a healthy m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million to 50 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s of average ejacul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 million sperm; 25 million moving; 25 million deform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uration: 72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 swimming speed of a sper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inches per h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vival time in a woman:   2 to 7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Other related concern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76438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rcumcis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 process that surgically removes the flap of skin that covers the glans of the pen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jacula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when semen carrying sperm spurts out of pen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me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the thick, sticky fluid which contains sperm ejaculated by the male from the penis during orgasm (climax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cturnal Emiss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 normal, involuntary ejaculation of semen and sperm while a male is aslee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otenc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the failure to get or maintain an e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sectomy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surgical procedure for sterilization of the m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4" dur="1" fill="hold"/>
                                  <p:tgtEl>
                                    <p:spTgt spid="19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Importance of Reproduction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76438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vival of a speci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600200" y="3124080"/>
            <a:ext cx="28576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le Time Li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anc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ections 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s 11-1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ary sex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ist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s 13-1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rm produc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in adult amount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(puber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te tee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ak sexu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ges for bo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oughout li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good health is present, there is the sex urge and ability to father childr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male Time Li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s 9-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ary sex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ist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s 11-1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strual cyc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beg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te 20-30’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ak sexu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s 45-5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opaus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(cycle stops, but sex urg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1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6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1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6" dur="5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1" dur="50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6" dur="500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1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6" dur="5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1" dur="500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6" dur="500"/>
                                        <p:tgtEl>
                                          <p:spTgt spid="1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1981080" y="2514600"/>
            <a:ext cx="4419720" cy="40338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Female Reproductive Organ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990720" y="1295280"/>
            <a:ext cx="71625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ulva: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man’s external genital a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dendum or Pub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the area in the body where the sex organs are loc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s Pubi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a mound of fatty tissue which covers the pubic bo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bia Major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(large lips)  two folds of skin running from the mons pubis to below the vaginal op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bia Minora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smaller folds of tissue which lie just within the labia major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tori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a small, pea-shaped bump at the front of the labia that contains erectile tissue (cou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to male peni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ethr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below the clitoris, the opening to the blad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3048120" y="1219320"/>
            <a:ext cx="6095880" cy="540216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120" y="1294920"/>
            <a:ext cx="764388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Internal Organ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1920" y="220968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men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 narrow fold of tissue encircling the entrance to the vag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gin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passageway between the uterus and the outside of a woman’s bod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rvix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Opening from the uterus to the vag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teru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place where the baby grows in a woman’s abdom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iducts (Fallopian Tubes)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wo tubular structures leading from the ovaries to the uter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arie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organs holding a woman’s eg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0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2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20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20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2000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0" y="57240"/>
            <a:ext cx="9144000" cy="68007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52280" y="3049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6600"/>
                </a:solidFill>
                <a:uFillTx/>
                <a:latin typeface="Arial"/>
                <a:hlinkClick r:id="rId3"/>
              </a:rPr>
              <a:t>http://msnbcmedia.msn.com/i/msnbc/Components/Interactives/Health/WomensHealth/zFlashAssets/menstrual_cycle_dw2%5B1%5D.sw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Other related concern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76438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&amp;C: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lation and curettage, a common minor operation on wo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dometriosi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fragments of the endometrium in abnormal pl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gasm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characterized by the massive release of muscle tension which has built up during excit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smenorrhe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painful mentruation (primary or seconda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ysterectom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surgical removal of uter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2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2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2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20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380880" y="2282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bal Liga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an operation for sterilization of wo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6600"/>
                </a:solidFill>
                <a:uFillTx/>
                <a:latin typeface="Arial"/>
                <a:hlinkClick r:id="rId2"/>
              </a:rPr>
              <a:t>http://www.nytimes.com/imagepages/2007/08/01/health/adam/17136Tuballigation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M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emenstrual syndrome…2 weeks before your period…(collection of physical, psychological and emotional symptoms associated with the menstrual cycle. (80% of women have some sympto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strual Cyc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the process of passing the blood and tissue lining of the uterus from the bo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xic Shock Syndro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caused by bacteria (staphylococcus aureus) that live in the vagina, which then multiply and causes in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opau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the remaining ova no longer ripen or develo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2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20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20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2000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roge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the hormone responsible for secondary sex characteristics and for the sex drive in females.  The “egg producing” horm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esteron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builds up the lining of the uterus to prepare it for the fertilized ovum.; the “egg-setting” horm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ula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time when the egg is released from the ov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2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2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20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Fertilization (conception):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 a sperm entering an ovum.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6320" y="3657600"/>
            <a:ext cx="375156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Miracle of Life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5105520" y="2535120"/>
            <a:ext cx="4038480" cy="26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0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2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The Visible Embryo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76438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6600"/>
                </a:solidFill>
                <a:uFillTx/>
                <a:latin typeface="Arial"/>
                <a:hlinkClick r:id="rId2"/>
              </a:rPr>
              <a:t>http://www.glencoe.com/sec/science/cgi-bin/splitwindow.cgi?top=http://www.glencoe.com/sec/science/top2.html&amp;link=http://www.visembryo.com/baby/index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Did You Know?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76438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male Oysters produce an est. 115 million eggs of which only each spaw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male frogs produce hundreds of thousands of eggs for ferti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females have 400 000 egg cells, of which only 400 mature throughout the reproductive years (12 to 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males, beginning at approx age 13 up until their 80’s and 90’s can produce as many as one billion sex cells every da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st number of offspring ever born to a woman was 57~Ouch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Class Review: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76438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6600"/>
                </a:solidFill>
                <a:uFillTx/>
                <a:latin typeface="Arial"/>
                <a:hlinkClick r:id="rId2"/>
              </a:rPr>
              <a:t>http://www.quia.com/quiz/887927.html?AP_rand=17283106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4 Functions of the Reproductive System:</a:t>
            </a:r>
            <a:br>
              <a:rPr sz="3200"/>
            </a:b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76438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produce egg and sperm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transport and sustain the egg and sperm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nurture the developing off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produce horm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Organs of the Reproductive System: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76438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mary reproductive orga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 gona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onsist of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ar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es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These organs are responsible 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cing the egg and sperm cells, (gametes)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cing hormon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rmon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un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turation of the reproductive syst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velopment of sexual characteristi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have important role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gulating the normal physiology of the reproductive syste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Organs of the Reproductive System: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76438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 oth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rgans, ducts, and glan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he reproductive system are consider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ary, or accesso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reproductive organs. These structure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p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stain the game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rture the developing offspr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imilarities / Differences of Male &amp; Female: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76438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very similar structures of sex glan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genital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e the hormones of the other sex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rmones of one sex are often used to treat illness in the other sex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sexes have reproductive organs call GENITALS or GENITALIA, designed for the purpose of intercourse and conce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the female has organs for pregnancy and childbirth….although…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66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800" spc="-1" strike="noStrike" u="sng">
                <a:solidFill>
                  <a:srgbClr val="cc6600"/>
                </a:solidFill>
                <a:uFillTx/>
                <a:latin typeface="Arial"/>
                <a:hlinkClick r:id="rId3"/>
              </a:rPr>
              <a:t>youtube.com/watch?v</a:t>
            </a:r>
            <a:r>
              <a:rPr b="0" lang="en-US" sz="2800" spc="-1" strike="noStrike" u="sng">
                <a:solidFill>
                  <a:srgbClr val="cc6600"/>
                </a:solidFill>
                <a:uFillTx/>
                <a:latin typeface="Arial"/>
                <a:hlinkClick r:id="rId4"/>
              </a:rPr>
              <a:t>=6XyJlWQnMTU&amp;feature=rel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6" dur="1" fill="hold"/>
                                  <p:tgtEl>
                                    <p:spTgt spid="17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Male &amp; Female Reproductive Systems: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76438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le gona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s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produce male sex cells call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emale gona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ar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produce the female sex cell called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G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usion of a male and a female sex cell, in a process call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ertil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produces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YGO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ygote divid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ny times to form a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bry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ich in turn continues to grow into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t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4360" y="4510080"/>
            <a:ext cx="77724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The Male Reproductive System</a:t>
            </a:r>
            <a:endParaRPr b="1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684360" y="5589720"/>
            <a:ext cx="64008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l &amp; Exter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5T16:33:28Z</dcterms:created>
  <dc:creator>lisa.holyokewalsh</dc:creator>
  <dc:description/>
  <dc:language>en-US</dc:language>
  <cp:lastModifiedBy>lisa.holyokewalsh</cp:lastModifiedBy>
  <dcterms:modified xsi:type="dcterms:W3CDTF">2008-05-24T20:58:33Z</dcterms:modified>
  <cp:revision>10</cp:revision>
  <dc:subject/>
  <dc:title>The Reproductive System</dc:title>
</cp:coreProperties>
</file>